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29856-964D-4A84-B077-308FBC56D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71FE4-1B17-48DF-9A52-755F0A04B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862F6-ED73-4149-89E6-07D2C5185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8FEE5-EB4E-4341-A851-A2452D424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B5822-4635-414D-B0FF-DAC4043E6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B39C9-3141-46A4-BD91-99A5C1498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17595-D9D6-45A8-88EC-EBB335E2F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EDD4E-4DD6-4CD9-A8DA-82338C06A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913BE-D08F-4F57-8CF3-CD520A8EA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F87A9-46F1-42DD-AEC9-439633588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F8621-9103-4654-B0BA-61245B061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7AA7-A2A1-45DB-B03C-A3A6A0D4F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08006-7116-46B4-A253-C2CE68B96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3AB0D-5F0C-4FB2-B4BB-9C9C5A7A9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17BF8-2BBF-4F53-9CFD-6378D710D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CC9E4-3D01-4C40-85FE-393C9850A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73219-CFAD-4993-925F-6AF116996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2BD0C-CF9E-4711-95E1-F5BFBBCDE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3914-07C4-4BA1-966E-FC235B2F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8B98-1C55-48F4-99D1-EEDF8D8AA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3AB78-3C4B-4190-B042-C584F926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6B2F0-934C-4A11-BAFE-67904ECBD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B304-0782-4131-923E-25521DE47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8AA5-73E6-4DA9-8CB8-9AD94445B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B352-09C8-414F-9704-D721450BFD27}"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FC51-1C71-4101-B782-EE95AA3A3F95}"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roubleshooting%20the%20Charger.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Daily%20LaptopCartChecksheet.xls"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iSquad</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Readying Instructional Environment</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Distributing and Collecting Laptops </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11"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Now that you have given it some thought, take the next 20 minutes to come up with a plan that will work best for your classroom and your students.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Be sure to think about what qualities cart monitors should hav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Train them to realize the significant responsibility that they will have in ensuring that all laptops are accounted for, secured and fully charged for distribution.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When the time is up, we will come together to share what ideas you have come up with.</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3"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	</a:t>
            </a:r>
            <a:r>
              <a:rPr b="0" i="1" lang="en-US" sz="2800" spc="-1" strike="noStrike" u="sng">
                <a:solidFill>
                  <a:srgbClr val="212164"/>
                </a:solidFill>
                <a:uFillTx/>
                <a:latin typeface="Arial"/>
              </a:rPr>
              <a:t>Step 1</a:t>
            </a:r>
            <a:r>
              <a:rPr b="0" i="1" lang="en-US" sz="2800" spc="-1" strike="noStrike">
                <a:solidFill>
                  <a:srgbClr val="212164"/>
                </a:solidFill>
                <a:latin typeface="Arial"/>
              </a:rPr>
              <a:t> - Recall your classroom set up and the class you will be working with.</a:t>
            </a:r>
            <a:br>
              <a:rPr sz="2800"/>
            </a:br>
            <a:r>
              <a:rPr b="0" i="1" lang="en-US" sz="2800" spc="-1" strike="noStrike" u="sng">
                <a:solidFill>
                  <a:srgbClr val="212164"/>
                </a:solidFill>
                <a:uFillTx/>
                <a:latin typeface="Arial"/>
              </a:rPr>
              <a:t>Step 2</a:t>
            </a:r>
            <a:r>
              <a:rPr b="0" i="1" lang="en-US" sz="2800" spc="-1" strike="noStrike">
                <a:solidFill>
                  <a:srgbClr val="212164"/>
                </a:solidFill>
                <a:latin typeface="Arial"/>
              </a:rPr>
              <a:t> – Determine the qualities a cart monitor should have.</a:t>
            </a:r>
            <a:endParaRPr b="0" lang="en-US" sz="2800" spc="-1" strike="noStrike">
              <a:solidFill>
                <a:srgbClr val="2121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	</a:t>
            </a:r>
            <a:r>
              <a:rPr b="0" i="1" lang="en-US" sz="2800" spc="-1" strike="noStrike" u="sng">
                <a:solidFill>
                  <a:srgbClr val="212164"/>
                </a:solidFill>
                <a:uFillTx/>
                <a:latin typeface="Arial"/>
              </a:rPr>
              <a:t>Step 3</a:t>
            </a:r>
            <a:r>
              <a:rPr b="0" i="1" lang="en-US" sz="2800" spc="-1" strike="noStrike">
                <a:solidFill>
                  <a:srgbClr val="212164"/>
                </a:solidFill>
                <a:latin typeface="Arial"/>
              </a:rPr>
              <a:t> - Based on the school's regular routines, decide at what point you should begin distribution.</a:t>
            </a:r>
            <a:endParaRPr b="0" lang="en-US" sz="2800" spc="-1" strike="noStrike">
              <a:solidFill>
                <a:srgbClr val="2121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	</a:t>
            </a:r>
            <a:r>
              <a:rPr b="0" i="1" lang="en-US" sz="2800" spc="-1" strike="noStrike" u="sng">
                <a:solidFill>
                  <a:srgbClr val="212164"/>
                </a:solidFill>
                <a:uFillTx/>
                <a:latin typeface="Arial"/>
              </a:rPr>
              <a:t>Step 4</a:t>
            </a:r>
            <a:r>
              <a:rPr b="0" i="1" lang="en-US" sz="2800" spc="-1" strike="noStrike">
                <a:solidFill>
                  <a:srgbClr val="212164"/>
                </a:solidFill>
                <a:latin typeface="Arial"/>
              </a:rPr>
              <a:t> - Determine what routines you will implement that are most suitable for your classroom environment.</a:t>
            </a:r>
            <a:br>
              <a:rPr sz="2800"/>
            </a:br>
            <a:r>
              <a:rPr b="0" i="1" lang="en-US" sz="2800" spc="-1" strike="noStrike" u="sng">
                <a:solidFill>
                  <a:srgbClr val="212164"/>
                </a:solidFill>
                <a:uFillTx/>
                <a:latin typeface="Arial"/>
              </a:rPr>
              <a:t>Step 5</a:t>
            </a:r>
            <a:r>
              <a:rPr b="0" i="1" lang="en-US" sz="2800" spc="-1" strike="noStrike">
                <a:solidFill>
                  <a:srgbClr val="212164"/>
                </a:solidFill>
                <a:latin typeface="Arial"/>
              </a:rPr>
              <a:t> – Post these routines to be used in your classroom as a reference.</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will these procedure work well in your classroom?</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will you handle unexpected events that may disrupt your proces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
        <p:nvSpPr>
          <p:cNvPr id="117"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roubleshooting</a:t>
            </a:r>
            <a:endParaRPr b="1" lang="en-US" sz="4400" spc="-1" strike="noStrike">
              <a:solidFill>
                <a:srgbClr val="212164"/>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f the light does not go on...</a:t>
            </a:r>
            <a:br>
              <a:rPr sz="2400"/>
            </a:br>
            <a:r>
              <a:rPr b="0" lang="en-US" sz="2400" spc="-1" strike="noStrike">
                <a:solidFill>
                  <a:srgbClr val="212164"/>
                </a:solidFill>
                <a:latin typeface="Arial"/>
              </a:rPr>
              <a: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Check that the two pieces of the cord have not been disconnected.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Make sure that the cord is properly plugged into the outlet in the car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Check to make sure that the cart is properly plugged into the outlet on the wall.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Check power switch on the car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Make sure that the main outlet is functioning. </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some ways that I can make sure all laptops are distributed, collected and stored properl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assist with the day-to-day distribution and collection of laptop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many times have laptops been distributed to you and upon startup, you realize that the battery is not charged?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re there days when an entire class is being held up because it is taking too long to distribute or collect the laptop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 we will discuss the rituals and routines that you can put into place to ease the process of distributing and collecting laptops.</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t least two responsible students will monitor the distribution, collection, and connection of all laptop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 prepared for absences with backup monitor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Know where the cart keys belo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istributing</a:t>
            </a:r>
            <a:endParaRPr b="1" lang="en-US" sz="4400" spc="-1" strike="noStrike">
              <a:solidFill>
                <a:srgbClr val="212164"/>
              </a:solidFill>
              <a:latin typeface="Arial"/>
            </a:endParaRPr>
          </a:p>
        </p:txBody>
      </p:sp>
      <p:sp>
        <p:nvSpPr>
          <p:cNvPr id="102"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Upon entering class, prepare the carts for distribution. </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Establish a routine for the appropriate time to begin distribution (i.e. after the pledge, after attendance has been taken, etc.). </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Monitors can begin by calling up each student, disconnecting their laptop from the charger and handing it over to the student with two hands. If there is more than one cart, monitors can alternate calling out names. This is repeated until each student has his/her laptop. Once this is done, cart monitors will make sure that the remaining laptops are still charging and secured.</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ollecting</a:t>
            </a:r>
            <a:endParaRPr b="1" lang="en-US" sz="4400" spc="-1" strike="noStrike">
              <a:solidFill>
                <a:srgbClr val="212164"/>
              </a:solidFill>
              <a:latin typeface="Arial"/>
            </a:endParaRPr>
          </a:p>
        </p:txBody>
      </p:sp>
      <p:sp>
        <p:nvSpPr>
          <p:cNvPr id="104"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nitors should begin preparing the carts for the collection of laptops immediately upon walking into classroom.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ing the same process for distributing, each student will hand over his/her laptop to the monitor as their names are called.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art monitors are to make sure that each laptop is stored, in the assigned compartment, and connected to the charger.</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 light should go on to indicate that the laptop has been properly connected.</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5421"/>
                </a:solidFill>
                <a:uFillTx/>
                <a:latin typeface="Arial"/>
                <a:hlinkClick r:id="rId1"/>
              </a:rPr>
              <a:t>What do I do if I don’t see a light?</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6"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nce all laptops are secured, monitors will sign off on the "sign off sheet" that confirms all laptops, belonging to that cart, are collected and inside the car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5421"/>
                </a:solidFill>
                <a:uFillTx/>
                <a:latin typeface="Arial"/>
                <a:hlinkClick r:id="rId1"/>
              </a:rPr>
              <a:t>Sign off sheet </a:t>
            </a:r>
            <a:r>
              <a:rPr b="0" lang="en-US" sz="2800" spc="-1" strike="noStrike" u="sng">
                <a:solidFill>
                  <a:srgbClr val="212164"/>
                </a:solidFill>
                <a:uFillTx/>
                <a:latin typeface="Arial"/>
              </a:rPr>
              <a:t>should be placed on the cart for easy access at the end of the day. It is the teacher's responsibility to make sure that this is being signed daily.</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Arial"/>
              </a:rPr>
              <a:t>Note:</a:t>
            </a:r>
            <a:r>
              <a:rPr b="0" lang="en-US" sz="2800" spc="-1" strike="noStrike">
                <a:solidFill>
                  <a:srgbClr val="212164"/>
                </a:solidFill>
                <a:latin typeface="Arial"/>
              </a:rPr>
              <a:t> Notify your teacher immediately in the event that a laptop is not returned.</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ow I will demonstrate how the process should work once all routines are established and monitors are comfortable with their responsibilities. In this demonstration, I will I distribute and collect your computer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ow it's your turn to try and develop routines that will best fit your classroom environment. Think about the processes and determine how they can help facilitate the distribution and collection of laptops.</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2-26T01:00:58Z</dcterms:modified>
  <cp:revision>6</cp:revision>
  <dc:subject/>
  <dc:title>Workshop Title</dc:title>
</cp:coreProperties>
</file>